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04A-352C-4E81-BA62-FA2B1756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19C-23FA-419E-9D86-19E7722D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855-BFEB-4AEA-9439-C528F3E8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4AF-3F9F-4912-8577-75F6413B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5D31-BCEB-4DD4-961A-65BB9A49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7311-20AD-4162-9835-C0B54CF0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4FF6-CB4A-46CF-B225-AE0360A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0A7-8585-4995-AEE4-26DDC09B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DE02-1977-4168-A65D-4D4C3B17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F7D8-C6A3-45C7-9F68-64F6C7D4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4E15-A402-4A24-BF65-C2563FA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19B-97AC-4AF0-81FB-C6D484AF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81AD-5C13-45E2-93A8-AB4635AB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1F9C-5AD1-4CA8-9B0A-81C52A13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D938-A771-4167-9918-56813FF4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823B-5201-4AE2-88E7-79E9CB34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5F00-A01F-4998-842F-E338D913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37B1-4196-4306-BA04-E3326D18E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17DE-82BE-4A98-BE75-9201B339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C4AC-2345-47A8-BB10-8B192318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2A0A-EA14-4D8C-B58C-4E4961E7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5600-A7FD-40F5-88DC-E745C0E8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DC7-244F-4EF4-87E1-EDF7A76F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244C-90D0-404D-9D1E-7A3D3AD5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60A3-C9AB-4276-96E3-811D485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A4D2-1F71-4B2F-B8F1-8A5576E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E3FC-C809-4B0B-BFFA-FE20A7E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0956A-AEBC-43A7-AAEA-23F773A2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DC11-2687-4231-AEC3-95684E2B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AFEA-1D0C-45A0-A87F-9CA14C33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A8946-D5D1-4D2E-9842-7F11B5EF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275D-2EA9-46D0-9DE8-FF534AB9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936D-9349-4F27-9300-9065F6D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4E5-E333-4BD3-9F90-5E011B01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3E14-3B6B-4550-B590-7BF075A3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15D9-19B4-4539-A7C1-6FAD0E06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8BD69-BAC5-42E9-BF5B-7E3C8F66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8E86A-88BA-4022-90C0-EFDB6419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6F77-E4E9-4C55-B193-AE16ED85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0B90E-4FB0-467C-88F9-D08A9593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49624-7B09-4437-8BFA-1D16446C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8367-8566-4842-A8E5-47E72EC1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82E9-E2B7-4D9B-B5D2-7863562B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959-74A4-4CA8-959F-FA89DA2F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D00-7870-4C0F-8757-1C54A281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505-0A01-4AB9-A734-57742411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1DF-5843-4206-817C-368C0D4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500-6829-454F-A02C-0CFD38FB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467-E812-404A-837E-23AE5FF6664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0191-E127-41F5-9C07-084EFC9E99E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D4A4-733E-4996-9876-44D67088530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DA04-E4AB-4F27-A57F-DB9573A5E5D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341280" y="1365120"/>
            <a:ext cx="83692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4 CuadroTexto"/>
          <p:cNvSpPr/>
          <p:nvPr/>
        </p:nvSpPr>
        <p:spPr>
          <a:xfrm>
            <a:off x="6286680" y="107172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Ventana de coman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99" name="6 Conector recto de flecha"/>
          <p:cNvCxnSpPr>
            <a:stCxn id="198" idx="1"/>
          </p:cNvCxnSpPr>
          <p:nvPr/>
        </p:nvCxnSpPr>
        <p:spPr>
          <a:xfrm flipH="1" flipV="1">
            <a:off x="3514320" y="931320"/>
            <a:ext cx="2772720" cy="324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7 CuadroTexto"/>
          <p:cNvSpPr/>
          <p:nvPr/>
        </p:nvSpPr>
        <p:spPr>
          <a:xfrm>
            <a:off x="357120" y="2571840"/>
            <a:ext cx="171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bjetos crea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1" name="9 Conector recto de flecha"/>
          <p:cNvCxnSpPr>
            <a:stCxn id="200" idx="0"/>
          </p:cNvCxnSpPr>
          <p:nvPr/>
        </p:nvCxnSpPr>
        <p:spPr>
          <a:xfrm flipV="1">
            <a:off x="1212840" y="1856520"/>
            <a:ext cx="2160" cy="71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10 CuadroTexto"/>
          <p:cNvSpPr/>
          <p:nvPr/>
        </p:nvSpPr>
        <p:spPr>
          <a:xfrm>
            <a:off x="71280" y="550080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Ventana de coman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3" name="12 Conector recto de flecha"/>
          <p:cNvCxnSpPr>
            <a:stCxn id="202" idx="0"/>
          </p:cNvCxnSpPr>
          <p:nvPr/>
        </p:nvCxnSpPr>
        <p:spPr>
          <a:xfrm flipH="1" flipV="1">
            <a:off x="856800" y="3999960"/>
            <a:ext cx="357840" cy="1500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13 CuadroTexto"/>
          <p:cNvSpPr/>
          <p:nvPr/>
        </p:nvSpPr>
        <p:spPr>
          <a:xfrm>
            <a:off x="5286240" y="1643040"/>
            <a:ext cx="857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cal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14 CuadroTexto"/>
          <p:cNvSpPr/>
          <p:nvPr/>
        </p:nvSpPr>
        <p:spPr>
          <a:xfrm>
            <a:off x="5286240" y="2714760"/>
            <a:ext cx="785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tri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15 CuadroTexto"/>
          <p:cNvSpPr/>
          <p:nvPr/>
        </p:nvSpPr>
        <p:spPr>
          <a:xfrm>
            <a:off x="5286240" y="3857760"/>
            <a:ext cx="250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peración escalar matri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16 CuadroTexto"/>
          <p:cNvSpPr/>
          <p:nvPr/>
        </p:nvSpPr>
        <p:spPr>
          <a:xfrm>
            <a:off x="5286240" y="492912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peración de matric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17 CuadroTexto"/>
          <p:cNvSpPr/>
          <p:nvPr/>
        </p:nvSpPr>
        <p:spPr>
          <a:xfrm>
            <a:off x="5286240" y="5929200"/>
            <a:ext cx="1643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to pu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9" name="19 Conector recto de flecha"/>
          <p:cNvCxnSpPr>
            <a:stCxn id="204" idx="1"/>
          </p:cNvCxnSpPr>
          <p:nvPr/>
        </p:nvCxnSpPr>
        <p:spPr>
          <a:xfrm flipH="1">
            <a:off x="3071160" y="1826280"/>
            <a:ext cx="221508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22 Conector recto de flecha"/>
          <p:cNvCxnSpPr>
            <a:stCxn id="205" idx="1"/>
          </p:cNvCxnSpPr>
          <p:nvPr/>
        </p:nvCxnSpPr>
        <p:spPr>
          <a:xfrm flipH="1">
            <a:off x="3928680" y="2898720"/>
            <a:ext cx="1357920" cy="102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24 Conector recto de flecha"/>
          <p:cNvCxnSpPr>
            <a:stCxn id="206" idx="1"/>
          </p:cNvCxnSpPr>
          <p:nvPr/>
        </p:nvCxnSpPr>
        <p:spPr>
          <a:xfrm flipH="1">
            <a:off x="3857400" y="4041720"/>
            <a:ext cx="142920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26 Conector recto de flecha"/>
          <p:cNvCxnSpPr>
            <a:stCxn id="207" idx="1"/>
          </p:cNvCxnSpPr>
          <p:nvPr/>
        </p:nvCxnSpPr>
        <p:spPr>
          <a:xfrm flipH="1" flipV="1">
            <a:off x="3499560" y="5071680"/>
            <a:ext cx="1786680" cy="4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28 Conector recto de flecha"/>
          <p:cNvCxnSpPr>
            <a:stCxn id="208" idx="1"/>
          </p:cNvCxnSpPr>
          <p:nvPr/>
        </p:nvCxnSpPr>
        <p:spPr>
          <a:xfrm flipH="1" flipV="1">
            <a:off x="3857400" y="6071760"/>
            <a:ext cx="1429200" cy="4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4 CuadroTexto"/>
          <p:cNvSpPr/>
          <p:nvPr/>
        </p:nvSpPr>
        <p:spPr>
          <a:xfrm>
            <a:off x="5429160" y="1357200"/>
            <a:ext cx="2000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trices especia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5 CuadroTexto"/>
          <p:cNvSpPr/>
          <p:nvPr/>
        </p:nvSpPr>
        <p:spPr>
          <a:xfrm>
            <a:off x="5429160" y="3071880"/>
            <a:ext cx="2786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finición útil de matriz fil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6 CuadroTexto"/>
          <p:cNvSpPr/>
          <p:nvPr/>
        </p:nvSpPr>
        <p:spPr>
          <a:xfrm>
            <a:off x="5429160" y="4857840"/>
            <a:ext cx="2571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unciones sobre matric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0" name="8 Conector recto de flecha"/>
          <p:cNvCxnSpPr>
            <a:stCxn id="217" idx="1"/>
          </p:cNvCxnSpPr>
          <p:nvPr/>
        </p:nvCxnSpPr>
        <p:spPr>
          <a:xfrm flipH="1" flipV="1">
            <a:off x="3357720" y="1499760"/>
            <a:ext cx="2071800" cy="4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10 Conector recto de flecha"/>
          <p:cNvCxnSpPr>
            <a:stCxn id="217" idx="1"/>
          </p:cNvCxnSpPr>
          <p:nvPr/>
        </p:nvCxnSpPr>
        <p:spPr>
          <a:xfrm flipH="1">
            <a:off x="3357720" y="1540440"/>
            <a:ext cx="2071800" cy="959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12 Conector recto de flecha"/>
          <p:cNvCxnSpPr>
            <a:stCxn id="218" idx="1"/>
          </p:cNvCxnSpPr>
          <p:nvPr/>
        </p:nvCxnSpPr>
        <p:spPr>
          <a:xfrm flipH="1">
            <a:off x="3428640" y="3255840"/>
            <a:ext cx="200088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14 Conector recto de flecha"/>
          <p:cNvCxnSpPr>
            <a:stCxn id="219" idx="1"/>
          </p:cNvCxnSpPr>
          <p:nvPr/>
        </p:nvCxnSpPr>
        <p:spPr>
          <a:xfrm flipH="1" flipV="1">
            <a:off x="3214080" y="4142880"/>
            <a:ext cx="2215080" cy="899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16 Conector recto de flecha"/>
          <p:cNvCxnSpPr>
            <a:stCxn id="219" idx="1"/>
          </p:cNvCxnSpPr>
          <p:nvPr/>
        </p:nvCxnSpPr>
        <p:spPr>
          <a:xfrm flipH="1">
            <a:off x="3214080" y="5041800"/>
            <a:ext cx="221508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5 CuadroTexto"/>
          <p:cNvSpPr/>
          <p:nvPr/>
        </p:nvSpPr>
        <p:spPr>
          <a:xfrm>
            <a:off x="2214720" y="3143160"/>
            <a:ext cx="207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ditor de Coman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9" name="7 Conector recto de flecha"/>
          <p:cNvCxnSpPr/>
          <p:nvPr/>
        </p:nvCxnSpPr>
        <p:spPr>
          <a:xfrm flipH="1" flipV="1">
            <a:off x="142560" y="570960"/>
            <a:ext cx="2358000" cy="257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9 Conector recto de flecha"/>
          <p:cNvCxnSpPr/>
          <p:nvPr/>
        </p:nvCxnSpPr>
        <p:spPr>
          <a:xfrm flipH="1">
            <a:off x="1642320" y="3499920"/>
            <a:ext cx="857880" cy="264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4 CuadroTexto"/>
          <p:cNvSpPr/>
          <p:nvPr/>
        </p:nvSpPr>
        <p:spPr>
          <a:xfrm>
            <a:off x="6357960" y="5214960"/>
            <a:ext cx="221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finición de fun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5 CuadroTexto"/>
          <p:cNvSpPr/>
          <p:nvPr/>
        </p:nvSpPr>
        <p:spPr>
          <a:xfrm>
            <a:off x="785880" y="1714680"/>
            <a:ext cx="1785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Resultado gráf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6 CuadroTexto"/>
          <p:cNvSpPr/>
          <p:nvPr/>
        </p:nvSpPr>
        <p:spPr>
          <a:xfrm>
            <a:off x="214200" y="2428920"/>
            <a:ext cx="2071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t de instruccio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7 Elipse"/>
          <p:cNvSpPr/>
          <p:nvPr/>
        </p:nvSpPr>
        <p:spPr>
          <a:xfrm>
            <a:off x="2786040" y="214200"/>
            <a:ext cx="35719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8 CuadroTexto"/>
          <p:cNvSpPr/>
          <p:nvPr/>
        </p:nvSpPr>
        <p:spPr>
          <a:xfrm>
            <a:off x="142920" y="642960"/>
            <a:ext cx="2571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finir “lugar de trabajo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9" name="10 Forma"/>
          <p:cNvCxnSpPr>
            <a:stCxn id="238" idx="0"/>
          </p:cNvCxnSpPr>
          <p:nvPr/>
        </p:nvCxnSpPr>
        <p:spPr>
          <a:xfrm flipH="1" flipV="1" rot="5400000">
            <a:off x="1928520" y="-143280"/>
            <a:ext cx="286560" cy="12866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12 Conector recto de flecha"/>
          <p:cNvCxnSpPr>
            <a:stCxn id="235" idx="3"/>
          </p:cNvCxnSpPr>
          <p:nvPr/>
        </p:nvCxnSpPr>
        <p:spPr>
          <a:xfrm>
            <a:off x="2571480" y="1898640"/>
            <a:ext cx="214380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16 Conector recto de flecha"/>
          <p:cNvCxnSpPr>
            <a:stCxn id="234" idx="1"/>
          </p:cNvCxnSpPr>
          <p:nvPr/>
        </p:nvCxnSpPr>
        <p:spPr>
          <a:xfrm flipH="1" flipV="1">
            <a:off x="5571360" y="5000400"/>
            <a:ext cx="786600" cy="39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20 Conector recto de flecha"/>
          <p:cNvCxnSpPr/>
          <p:nvPr/>
        </p:nvCxnSpPr>
        <p:spPr>
          <a:xfrm flipH="1">
            <a:off x="1569240" y="2785680"/>
            <a:ext cx="2520" cy="429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5 CuadroTexto"/>
          <p:cNvSpPr/>
          <p:nvPr/>
        </p:nvSpPr>
        <p:spPr>
          <a:xfrm>
            <a:off x="2571840" y="4071960"/>
            <a:ext cx="3071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n caso de problemas, la mejor ayuda… lej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7" name="7 Conector recto de flecha"/>
          <p:cNvCxnSpPr/>
          <p:nvPr/>
        </p:nvCxnSpPr>
        <p:spPr>
          <a:xfrm flipV="1">
            <a:off x="3141720" y="1213920"/>
            <a:ext cx="2160" cy="2859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9 Conector recto de flecha"/>
          <p:cNvCxnSpPr>
            <a:stCxn id="246" idx="1"/>
          </p:cNvCxnSpPr>
          <p:nvPr/>
        </p:nvCxnSpPr>
        <p:spPr>
          <a:xfrm flipH="1">
            <a:off x="928440" y="4486680"/>
            <a:ext cx="1643760" cy="187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4721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70c0"/>
                </a:solidFill>
                <a:latin typeface="Calibri"/>
              </a:rPr>
              <a:t>Ejemplo: Michaelis - Mente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428840"/>
            <a:ext cx="26146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Constantia"/>
              </a:rPr>
              <a:t>Modelo Cinétic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"/>
              <p:cNvSpPr txBox="1"/>
              <p:nvPr/>
            </p:nvSpPr>
            <p:spPr>
              <a:xfrm>
                <a:off x="500040" y="2071800"/>
                <a:ext cx="2205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500040" y="2643120"/>
                <a:ext cx="2265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2</m:t>
                        </m:r>
                      </m:e>
                    </m:acc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500040" y="3214800"/>
                <a:ext cx="2224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3</m:t>
                        </m:r>
                      </m:e>
                    </m:acc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121280" y="1714680"/>
                <a:ext cx="2736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4049640" y="2320920"/>
                <a:ext cx="4094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1"/>
              <p:cNvSpPr txBox="1"/>
              <p:nvPr/>
            </p:nvSpPr>
            <p:spPr>
              <a:xfrm>
                <a:off x="4121280" y="2928960"/>
                <a:ext cx="3879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3"/>
              <p:cNvSpPr txBox="1"/>
              <p:nvPr/>
            </p:nvSpPr>
            <p:spPr>
              <a:xfrm>
                <a:off x="4121280" y="3500280"/>
                <a:ext cx="1593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17 Flecha derecha"/>
          <p:cNvSpPr/>
          <p:nvPr/>
        </p:nvSpPr>
        <p:spPr>
          <a:xfrm>
            <a:off x="3000240" y="2500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2 Marcador de contenido"/>
          <p:cNvSpPr/>
          <p:nvPr/>
        </p:nvSpPr>
        <p:spPr>
          <a:xfrm>
            <a:off x="428760" y="4286160"/>
            <a:ext cx="6429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Constantia"/>
              </a:rPr>
              <a:t>Cuasi Estacionalida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19 Flecha derecha"/>
          <p:cNvSpPr/>
          <p:nvPr/>
        </p:nvSpPr>
        <p:spPr>
          <a:xfrm>
            <a:off x="3000240" y="53578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5"/>
              <p:cNvSpPr txBox="1"/>
              <p:nvPr/>
            </p:nvSpPr>
            <p:spPr>
              <a:xfrm>
                <a:off x="1071720" y="4929120"/>
                <a:ext cx="1379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642960" y="6000840"/>
                <a:ext cx="235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o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4500720" y="4929120"/>
                <a:ext cx="41432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9"/>
              <p:cNvSpPr txBox="1"/>
              <p:nvPr/>
            </p:nvSpPr>
            <p:spPr>
              <a:xfrm>
                <a:off x="4500720" y="5872320"/>
                <a:ext cx="16430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4456440" y="73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4464000" y="12106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4721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70c0"/>
                </a:solidFill>
                <a:latin typeface="Calibri"/>
              </a:rPr>
              <a:t>Resultados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28840"/>
            <a:ext cx="26146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Constantia"/>
              </a:rPr>
              <a:t>Modelo Cinétic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4456440" y="73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4464000" y="12106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13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"/>
          <p:cNvPicPr/>
          <p:nvPr/>
        </p:nvPicPr>
        <p:blipFill>
          <a:blip r:embed="rId2"/>
          <a:stretch/>
        </p:blipFill>
        <p:spPr>
          <a:xfrm>
            <a:off x="4286160" y="18572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29 CuadroTexto"/>
          <p:cNvSpPr/>
          <p:nvPr/>
        </p:nvSpPr>
        <p:spPr>
          <a:xfrm>
            <a:off x="1357200" y="528624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K1 = K2 = 0.005; K3 = 0.1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3:13:25Z</dcterms:created>
  <dc:creator>todos</dc:creator>
  <dc:description/>
  <dc:language>en-US</dc:language>
  <cp:lastModifiedBy>todos</cp:lastModifiedBy>
  <dcterms:modified xsi:type="dcterms:W3CDTF">2007-10-25T06:12:55Z</dcterms:modified>
  <cp:revision>18</cp:revision>
  <dc:subject/>
  <dc:title>Diapositiva 1</dc:title>
</cp:coreProperties>
</file>